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C26-B4F7-42E8-936E-9E248752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A3C-BBD1-4519-946D-61817135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5C659-E005-4C1F-B66D-3A1F895B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693A5-0129-43FF-B8DE-21FB5B88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E516-B3D1-455D-9F80-B84E641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106F5-202D-44B6-A15D-2F7C39C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E441-71DE-417F-8071-CC2ACF6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0C19-1FD4-4705-ADF5-BCC7275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533F-4A54-4FC1-9618-9C7721C2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3E729-EBA6-41E7-A491-F50DCFF6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B6AE3-F5EF-4C51-A17A-97FB5286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3AFE6-18BF-46F7-B21D-5DC09B96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852-E844-468F-A177-B9BBEF75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7BAA7-88C3-4F6F-96AD-AA0F6C3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E5A60-5B61-4FD8-A875-B2695DD7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194F1-42DC-41EE-BE1F-F543CFAB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D69C2-BD2F-462F-8EC1-5359359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9F309-E2B5-4C12-AF97-ABEC0F42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4F995-F176-403B-8613-AB5CF9FD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0AA73-72D2-451F-9524-05CA465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9C792-D352-479D-A4F2-F4C297F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D267E-FCE2-4D4C-9FED-99E1A1B4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BCBF8-3F53-4442-9080-610606A7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00B-B0B3-412E-A7F3-8A375332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B86D9-4644-4C15-AACA-510C63BB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DF8E-871C-4A24-80D4-B8D15544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A3643-989D-4A63-A702-434B690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ABC1F-765B-4ADD-AFF4-66A51AC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81C72-4799-48F9-8958-C3756F2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EA282-64CE-46A6-8585-786C714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3B68D-D380-4170-8B67-7851AF8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B859-ECC5-43B3-901E-D67CAF7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09BCD-7041-48F1-B0F9-3BAD37A1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63BA4-613F-4F00-AFB9-05E1CD7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02FE-4309-412A-9C67-334E128C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D0922-99B7-4756-88E8-D3471C5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ABCC2-10AC-44D0-AFDF-84E295E0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F3E82-5D73-4C0B-96ED-6F5FFE4C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3F760-B17A-4566-A84B-CD51A291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A851D-E0A2-4CCD-9F1F-CDC83B86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2C995-B9DD-427B-BA1A-273A631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E46C8-0B01-45CE-B55E-C3C278A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22CBE-4206-456C-A53A-BBD8076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64136-5852-4820-8D06-38F8846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F68A8-AB84-4B17-9CE9-FFE8F53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0FD8-FB64-4AB5-98DA-8790CDED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5B111-2472-4879-9114-A693879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3CDCD-5B4B-48E1-B633-3FB81E9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D2E65-3327-4CD3-BAA7-2F3DDE1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18B2B-95DA-4718-BE00-3199782A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B3887-C897-49AB-99BA-50A729FE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AF3-D4FC-4E25-BC33-57225F7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2177-92F0-483A-AEBB-DB22D647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0807-78E3-45A7-B837-4C1A6013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D35-3A8B-4A66-84CB-2C919A76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E1E9-7492-492B-B1A5-E85DA4F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8AB-50C9-4244-80D6-6C8EE92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F0DB-7B6F-4E13-BD1D-CC38DA3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60C-7607-4D43-9E46-DB276FDA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E91A-806F-4F75-B292-57F84D8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0D12-A145-4396-BB37-0D4BBBA2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BC4C-3B69-4DEE-8758-71B00AB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3689-E313-4CA0-BEF7-4D87D3CB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1CBB-22A0-4128-8A68-ADF5B3B6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76D0-26C8-4451-9128-07D1B45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C2A7-943E-4124-952F-F9D8161D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F7B7-41B9-48AE-B556-EEA7E0FB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E16-F542-439E-B962-72D712A1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894C-6E1D-4712-B93D-936D7D3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B976-8467-48BA-A5AA-5CD7B38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762F-31EF-4A12-87DA-49E755D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F8BB-C98A-4EBB-A213-6CD0731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4212-D3C8-4769-9E04-15661F92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3673-3A8E-4B50-A33B-56A04DE7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CE8B-7BB9-4C9F-8E28-F90DC796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7FC2-6B14-4AAB-A30D-EB3A8A8C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DB84-D621-4820-B43C-EE871FF5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7642-5828-4BCE-B87B-D23C4C50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01F-D6A7-4B7A-BD3E-68316C26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14AF-8214-4BCA-A90F-CE59D8E9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1995-C06D-4DD2-B229-2C3A384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DA62-020D-4844-8CD0-CCA3A181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E4F7-866B-4F68-83BF-1819DA6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947B-0E70-46E0-A474-2CBCBEF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5C19-317E-49B9-977F-A3920BF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530F-F264-4E0D-80BD-8FC6DC4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7B21-91AC-4E2B-9243-6947AA12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CEBA-E80F-4E64-A50F-761CAB3C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C183-5D73-4FF1-A8B6-5F2F7207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FE3-2CFC-4CAD-949D-05EBA89C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A630-B906-46BC-930D-6D8317F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5141-4176-4C67-A864-5127D86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05947-913A-404D-975B-A8EB447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099C-7D27-4AED-ABAC-32F9939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CD10F-770A-41E1-9880-12860BD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A0C6-9C51-4F5E-AA02-CDD5B5AF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2BBD-52DC-4F8C-93EB-B791C16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CEDB-DD06-4895-B554-C89C726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93F1-B2BD-4F5D-B943-5CAB95A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AB29-1FBF-451E-82AB-3EB7C23F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7CA-7C35-452D-AF17-A0F3E6C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5C23-5DD7-447A-ABFB-D3893DEF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A5D2-2909-436E-BCA5-52BA896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E3AB6-F5E5-4708-BDF0-60E7FAD8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CB26-96DC-4C48-A137-D41295B3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52BB-403E-44EA-9AEE-65FF1F0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4F21-6B0A-47C5-899A-1193BFA0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532A-8501-435E-A3A1-995891B1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7405D-D793-4AE8-A751-A42F72F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E279-5323-4858-80DE-29313AE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9782A-CB58-416D-BC0C-461E234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7E4-176D-4FED-A352-ADBE3F4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046C-278E-486B-89B2-C57FA92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EBBD4-3DD7-470D-93EE-36E36E66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76FE-0046-40BF-8CF1-689CE15A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F361-6737-40CD-9111-B7403CC5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0622-17D7-4EA2-B01F-BC68E30C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B78BC-8E9E-4D5B-95A6-20CBD5B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01D6-9D2A-438F-8F9B-53086816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4CFC-67E3-4DDF-9A49-1712100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A153-6815-4820-AA16-030ED955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5A168-8F70-4D8A-95D6-36D1CF4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9A6-A6C9-4405-88BB-C8B296F3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C5FF5-1D01-47E5-B807-80989FE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DAA1-F873-45C6-B446-525B951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901AC-845B-4F36-83F0-74C883F9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588B1-BCC3-417D-9ADD-BA888159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8CB9-3D4C-4F03-8CAC-936AD75D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B9FFB-1763-4EDA-BD6F-A269AEDF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40B6-DD55-426C-BCF6-5848A8D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1391-83CB-4223-8187-AB7E610A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92D39-0C0D-4EA3-94B5-DCC1F64D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82AD-8F42-45D5-881D-95CE4F8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A23-9BF9-4DD0-A2FB-D795CE95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BCBB1-2026-4353-9D78-0761689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5256-47B8-49B7-83F2-90F5AFD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537CF-B832-4322-BF4F-BCC7F576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30D60-3971-4A2F-BAA3-D7EDF3A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45407-6A86-4380-882B-0800E1A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2F2BF-4BC8-4103-B305-727C8914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8DAD2-EE67-443D-87A0-45408F94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260C2-B5DC-43B6-A1EC-A887CAE1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9B0F-C314-48E8-90B6-C49DB060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B516-5FC7-40A6-8096-C8D51C62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15A-6D89-4FF3-8D2E-4253837913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5F9-326D-4DAA-A9F7-E209856768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7EEB-AAE9-4A07-A899-F0134F2B6E8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80F-BC6A-4A8F-9DFE-042C3CD1A1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FB1-57F3-4BD7-9796-9C0081E85A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83A-F675-4A0A-96ED-2E86F87A92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06B5-D994-41D4-A036-287AE5C4A8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439-B60A-4FF9-88D7-AB87B14474F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BDB-5F65-4FAC-9B42-26D0081885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F2ED-6E47-47C5-8EEC-7CFBB43146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127-C688-40A2-8454-E5347846A9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8E35-0902-4DEC-B627-1EEA1C57CA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8 Chcem byť tvojím vďačným dieťať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yť tvojím vďačným dieťaťo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če môj, Otče môj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sloboď ma z žia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e zl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 môj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om celým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a zvádza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veta kl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len, k 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dôverou sa, Pane, utiek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e spás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om celým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zmiet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ážoch már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a sám, veď ma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sným svet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k večn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voj domov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om celým patriť chc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52:25Z</dcterms:modified>
  <cp:revision>21</cp:revision>
  <dc:subject/>
  <dc:title>Je veľký náš Pán, on slávy je Kráľ Nech do všetkých strán  spev vrúcnych znie chvál.</dc:title>
</cp:coreProperties>
</file>